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fferent learning goals, success criteria, consolidating questions even though we are using the same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look at examples of each of these in the context of specific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FBCD-70F1-4A04-BC37-543AC902FDE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look at examples of each of these in the context of specific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64A3-3098-4300-91C0-BB926751994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ole group discussion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ovide the template for reference for Sandra and for Er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 and Mary might want to have them use the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77E6-45EB-4FAA-A60E-EE612EF7B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53F8A-05D4-445E-AC09-38C752D54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67F4-F271-4410-831C-66DA1DFE0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49A4-662A-4A8C-8A99-DEFE45990F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5829-2E11-4A6B-A7D1-ABAE6DBF7F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41E9-4B1A-4689-AF1C-0AEBCA7B0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3003-A8D9-4D63-98E3-87E901321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0D7C-BEB3-43D4-8969-5BFB4267B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7FA6-51ED-4EB4-AF7D-99E128420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845C-3843-48B3-BF1A-693C70444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196F-69EE-4FCB-9CB7-149CB12B0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662A-DA7C-4F27-943F-598E9672A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D84B-ED2B-46CB-8488-1A08CDB6BB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E06C-88E0-4BC4-8AED-F6CE019FA5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2DA2-0003-463D-9E80-4964890B81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ample Solu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following sample solutions and decide if they are a good solution (based on your group’s decision about what a good answer looks lik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B2C9-446B-4DA5-BB52-AD90218A06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 Different Le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Generaliz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cation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explore our sample solutions through this different lens.  Determine where the solutions fit using these frame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2CFA-9410-4D79-BDEB-74F047D4FF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eneralization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1447920"/>
                <a:gridCol w="6781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a picture or constructing a model to represent the situation to count the desired attrib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the previous term or terms in the sequence to determine subsequent terms (Additive think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le-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a portion as a unit to construct a larger unit by multiplying. There may or may not be an appropriate adjustment for over-or-undercount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ss-and-che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ssing a rule without regard to why this rule might work. Usually this involves experimenting with various operations and numbers provided in the problem situ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ng an explicit rule that expresses the co-variation of two sets of data, based on information provided in the situation. An explicit rule can allow for the prediction of any term number in the patter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12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ustification Frame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3301920"/>
        </p:xfrm>
        <a:graphic>
          <a:graphicData uri="http://schemas.openxmlformats.org/drawingml/2006/table">
            <a:tbl>
              <a:tblPr/>
              <a:tblGrid>
                <a:gridCol w="3124080"/>
                <a:gridCol w="510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stification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0: No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s do not address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1: Appeal to external auth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 is made to the correctness stated by some other individual or reference 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2: Empirical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fication is provided through the correctness of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articula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3: Generic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uctive justification is expressed for a particular instan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4: Deductive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ity is given through a deductive argument that is independent of particular in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15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feel about these frame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these frameworks match your success criter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(frameworks/success criteria) is more beneficial for students?  teac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E68B-ED01-4176-B958-FBD9935445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31C4-B595-4FEC-B132-206B8299C2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ur Learning Goal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Did we meet them?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lore different representations of patterns and discover that different representations bring about different mathematical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erience creating learning goals, success criteria and consolidat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5ECF-FC4C-4173-A9CC-0B2E6873F1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41EF-FADB-49BE-A4AC-794A6EA103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E:\Beach Images\Landscapes (A - Ci)\Beach Scene 27.wmf"/>
          <p:cNvPicPr/>
          <p:nvPr/>
        </p:nvPicPr>
        <p:blipFill>
          <a:blip r:embed="rId2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ack to the mat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handout individu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with your table when everyone has finis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BCB9-0E27-4873-87D3-040DB1E863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&amp; Algebra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79FD-F23F-4E61-9B14-51ACE1F100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:\Beach Images\Beach &amp; Water (K - P)\Man with Toy Boat.wmf"/>
          <p:cNvPicPr/>
          <p:nvPr/>
        </p:nvPicPr>
        <p:blipFill>
          <a:blip r:embed="rId1"/>
          <a:stretch/>
        </p:blipFill>
        <p:spPr>
          <a:xfrm>
            <a:off x="2235240" y="2303640"/>
            <a:ext cx="4672080" cy="2250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E:\Beach Images\Landscapes (A - Ci)\Beach Scene 27.wmf"/>
          <p:cNvPicPr/>
          <p:nvPr/>
        </p:nvPicPr>
        <p:blipFill>
          <a:blip r:embed="rId2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ard Sor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receiving a card which contains a representation of a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ask is to find all the people that have a different representation of your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, discuss which representation you find the most clear and which ones you are the most/least comfortable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6725-9FEC-43B4-AD33-3051435B55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our learning goal was for the card s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we achiev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2B48-5B3C-478D-B50B-C2F25F0C1A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E:\Beach Images\Beach &amp; Water (K - P)\Kayaking - No Paddle.wmf"/>
          <p:cNvPicPr/>
          <p:nvPr/>
        </p:nvPicPr>
        <p:blipFill>
          <a:blip r:embed="rId2"/>
          <a:stretch/>
        </p:blipFill>
        <p:spPr>
          <a:xfrm>
            <a:off x="4495680" y="2590920"/>
            <a:ext cx="2657520" cy="31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Table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how you would solve the problem on your own (3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 up and solve the problem in 2 different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6214-AD2E-48DC-B5B4-FE6AA2EE9D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6"/>
          <p:cNvGrpSpPr/>
          <p:nvPr/>
        </p:nvGrpSpPr>
        <p:grpSpPr>
          <a:xfrm>
            <a:off x="3962520" y="3886200"/>
            <a:ext cx="2882520" cy="1359000"/>
            <a:chOff x="3962520" y="3886200"/>
            <a:chExt cx="2882520" cy="1359000"/>
          </a:xfrm>
        </p:grpSpPr>
        <p:sp>
          <p:nvSpPr>
            <p:cNvPr id="71" name="AutoShape 17"/>
            <p:cNvSpPr/>
            <p:nvPr/>
          </p:nvSpPr>
          <p:spPr>
            <a:xfrm>
              <a:off x="4165560" y="4203720"/>
              <a:ext cx="1447560" cy="698400"/>
            </a:xfrm>
            <a:custGeom>
              <a:avLst/>
              <a:gdLst>
                <a:gd name="textAreaLeft" fmla="*/ 301320 w 1447560"/>
                <a:gd name="textAreaRight" fmla="*/ 1146240 w 1447560"/>
                <a:gd name="textAreaTop" fmla="*/ 145440 h 698400"/>
                <a:gd name="textAreaBottom" fmla="*/ 55296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18"/>
            <p:cNvSpPr/>
            <p:nvPr/>
          </p:nvSpPr>
          <p:spPr>
            <a:xfrm flipV="1">
              <a:off x="5245200" y="4203720"/>
              <a:ext cx="1447560" cy="698400"/>
            </a:xfrm>
            <a:custGeom>
              <a:avLst/>
              <a:gdLst>
                <a:gd name="textAreaLeft" fmla="*/ 301320 w 1447560"/>
                <a:gd name="textAreaRight" fmla="*/ 1146240 w 1447560"/>
                <a:gd name="textAreaTop" fmla="*/ 145440 h 698400"/>
                <a:gd name="textAreaBottom" fmla="*/ 55296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9"/>
            <p:cNvSpPr/>
            <p:nvPr/>
          </p:nvSpPr>
          <p:spPr>
            <a:xfrm>
              <a:off x="3962520" y="449568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0"/>
            <p:cNvSpPr/>
            <p:nvPr/>
          </p:nvSpPr>
          <p:spPr>
            <a:xfrm>
              <a:off x="4749840" y="4991040"/>
              <a:ext cx="21564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21"/>
            <p:cNvSpPr/>
            <p:nvPr/>
          </p:nvSpPr>
          <p:spPr>
            <a:xfrm>
              <a:off x="5524560" y="501660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2"/>
            <p:cNvSpPr/>
            <p:nvPr/>
          </p:nvSpPr>
          <p:spPr>
            <a:xfrm>
              <a:off x="6210360" y="5016600"/>
              <a:ext cx="2160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3"/>
            <p:cNvSpPr/>
            <p:nvPr/>
          </p:nvSpPr>
          <p:spPr>
            <a:xfrm>
              <a:off x="6629400" y="436860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4"/>
            <p:cNvSpPr/>
            <p:nvPr/>
          </p:nvSpPr>
          <p:spPr>
            <a:xfrm>
              <a:off x="4419720" y="392400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25"/>
            <p:cNvSpPr/>
            <p:nvPr/>
          </p:nvSpPr>
          <p:spPr>
            <a:xfrm>
              <a:off x="5092560" y="3911400"/>
              <a:ext cx="2160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6"/>
            <p:cNvSpPr/>
            <p:nvPr/>
          </p:nvSpPr>
          <p:spPr>
            <a:xfrm>
              <a:off x="5918400" y="3886200"/>
              <a:ext cx="21564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pectations, Big Ideas, 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compare your answers and discuss some of the different ways of solving these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chart paper, deter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pectation(s) (Grade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Ide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rning Goal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7AE1-532B-412D-AF44-0D5A7685B2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are you looking for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, determine what a good answer to the table problem would look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BE81-E1C2-45A9-812C-A22B0BB95F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ng Ques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, determine what a good consolidating question would be to determine that your learning goal has been reac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CEF2-8EF5-467F-9E04-F2693CA717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witch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chart papers with another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they similar? 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8D52-DB42-46D9-84C3-E5E8989DB4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d.wines</cp:lastModifiedBy>
  <dcterms:modified xsi:type="dcterms:W3CDTF">2011-08-05T14:49:11Z</dcterms:modified>
  <cp:revision>37</cp:revision>
  <dc:subject/>
  <dc:title>&lt;Title&gt;</dc:title>
</cp:coreProperties>
</file>